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04D9-F8FF-4E80-8A52-C2A58FD6D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ending an RTS [request to send] the node waits between a random period 0 and d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R lost most of the packets due to queue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a messsage from I to d. then j is in F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ice of the node from the viable candidate set is made based on the highest r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D and DSR do not perform well unde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DAF-ED13-469E-A6EB-C2C8473F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AE2-DFA0-4F04-B222-C671643C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7F5-2035-4023-8D05-8AEDAAE8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999-05E2-41D8-9F58-F963EF7C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8863-9635-4E95-8DD7-2A1BCB7C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BF8F-DFC6-4549-8327-F2E45081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A666-0B46-4211-A211-C2FCC866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0D88-C5AE-4F80-84D5-1F2E14E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C67C-75ED-4A0C-9207-79E667A8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8FF2-4841-49C8-883C-29640087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B218-299C-48AA-98AF-2687FED3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AD0-0BCF-45B1-8319-9C487055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878F-08C9-4206-AED4-1B01232C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CC11-2EE3-4D1F-AB07-2EB2829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B173-9D4C-4D62-A0EE-B05A69F0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9B2A-6736-4185-AA7E-C1CE18AD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5477-9686-48F3-803F-93038EE2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EAD-C7D7-4ED6-9176-FCD0A63B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D00-8434-42BC-AE48-56B462DE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9AA-2F07-4764-BE5A-01A881C4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86B-2E0D-4BDC-A238-9C94B1AC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FE3-FFAE-49E5-9BFC-A98F46E5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F5D-CDF0-4422-AE07-4C3642CC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0CF-27B8-4B2E-84B5-800A0550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F5C5-2086-4F96-A103-F5EAA18894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583A-611D-4428-8465-286B43207C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and SPEED 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 Octav Chip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Location-Address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less transpor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is based on geographic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Geographic forward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dy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 the node with the shortest geographic distance to the packet’s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every step the packet gets closer to the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really good for high densit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FS policy is generally used in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poorly for real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oth deadline and distance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s priority based on the requeste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gher velocity denotes higher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(2)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lav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monotonic velocity (S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monotonic velocity (D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(D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AC –layer prioritiz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municating multiple host compete for the shared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802.11b all messages have the same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force packet prioritization MAC protocols should provide distributed prioritization on packets from different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changed two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you can wait after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S = BASE_DIFS *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off increas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W=CW*(2 + (PRIORITY-1)/MAX_PRIOR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xperi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Source Routing (DS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ly designed for ID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based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 – fixed priority based on their e2e dea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Overall Miss Ratio of GF/DSR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Impact of scheduling on deadline misses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tate of the ar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few real-time algorithms exist for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based on sensor’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ealtime System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with two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garding the immediate neighb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 Rea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uniform speed delivery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is this uniform speed guaranteed globally or piece-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why would the application want something like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MAC Lay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ffic load-bal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ze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beacon exchang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estimation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less nondeterministic geographic forwarding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feedback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bone re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mi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MulticastSend(position,radius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all nodes in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AnyCastSend(position,radius,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a message to at least one node inside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Send(Global_ID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the specified ID (id is given by its geographic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Receiv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time constra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PEED aims at providing a uniform packet delivery speed across the sensor network, so that the end-to-end delay of a packet is proportional to the distance between the source and destination. With this service, real-time applications can estimate end-to-end delay before making admission decisions. Delay differentiation for different classes of packets is left as future wor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if the velocity is imposed piece wise how can we give end-to end guarante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By distance we mean Euclidian distance or the Euclidian distance of the pa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beacon exchange scheme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ally broadcasts a beacon to neighbors to exchange loc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reduce traffic we can piggyback th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enhanc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tising state changes may reduce number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demand bea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 esti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pressure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To 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scarce bandwidth cannot use probe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s measured at the sender as the difference between when the packet was queued and its ACK and the processing time on the recei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s track of multiple data points to compute the current delay using (EWM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avg = intervalavg + w * er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is the refresh time sample from this pac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 = I - intervalav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is the smoothing const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 estimation beacon is used to communicate to other neighbors the estimated de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 to make a set of neighboring nodes react to changes in traffic patters [avoid congesti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GF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set of nod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ing candidat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= d(i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next = d(next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y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7657" t="0" r="19173" b="0"/>
          <a:stretch/>
        </p:blipFill>
        <p:spPr>
          <a:xfrm>
            <a:off x="5638680" y="4425840"/>
            <a:ext cx="3505320" cy="243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0" y="0"/>
                <a:ext cx="2733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76520" y="3200400"/>
                <a:ext cx="4267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76520" y="2362320"/>
                <a:ext cx="2819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28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00200" y="5105520"/>
                <a:ext cx="3021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pee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pDela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FSi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Viable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idate=choose(Viable(FSi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o candi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 nodes to support Ssetpoint downstream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 if a random chosen between (0,1)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ger than th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pressure beacon up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057400"/>
                <a:ext cx="4419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abl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tpo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n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layer may provide Q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ce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s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nten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generates congestion hot-sp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d-to-end communication time depends on single-hop delay and the distance it has to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3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Bound =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end-to-end Euclidian distance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peed maintained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ssages have the same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really mean we can enforce a dead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 single hop speed above a desired S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etpoint is a network wide parameter that tunes how harsh the realtime requiremen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8625" t="0" r="0" b="0"/>
          <a:stretch/>
        </p:blipFill>
        <p:spPr>
          <a:xfrm>
            <a:off x="1143000" y="2286000"/>
            <a:ext cx="67816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Back pressure rerout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routing due to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gested area is detected and the probability of sending to that node is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reinforcement should refer to a geographic area rather than a no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10080" y="4673520"/>
            <a:ext cx="3733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Void avoidanc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s occur if the density is not high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voids similarly to hotspots by applying backbon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ackets may be dropped when trying to avoid a 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4875120"/>
            <a:ext cx="4114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Last mile process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close to the destin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2E Miss Ratio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etpoint = 1k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2e deadline = 2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rotocol Evalu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4419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Improving 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ossible  Improve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the application to specify different sp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speed and 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MAC layer to support priority sending messages with different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cheduling policy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messages dropp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integration with the physic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patter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coord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ors coordinate with one another [usually by defining a group] in order to aggrega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volves a small number of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-base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data from the local group to the base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multiple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stions?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ontribution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gh level architecture for large wireless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efin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en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Monotonic Scheduling (V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icy for scheduling packets in a senso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PIs for micro-sens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the number of packets meeting their e2e dead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well to large number of nodes and 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minimum communication over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Stack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5943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ry/Event Service 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y {attribute list, area, time constraints, querier location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er {event, area, query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ally the results will be send back to the que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ochipara</cp:lastModifiedBy>
  <cp:lastPrinted>1904-01-01T00:00:00Z</cp:lastPrinted>
  <dcterms:modified xsi:type="dcterms:W3CDTF">2003-09-12T21:53:18Z</dcterms:modified>
  <cp:revision>123</cp:revision>
  <dc:subject/>
  <dc:title>PowerPoint Presentation</dc:title>
</cp:coreProperties>
</file>